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F07-DAA9-4B99-AD06-1C635642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974-EB90-4D27-A99D-09129216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84A-E0D2-43E1-B672-D3E9FEE4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C06-192A-472C-A75B-E1FD0823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3C9-F90B-424D-A4C9-2CD0A16E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907-A46E-4E7D-A7D6-85DCC2F0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C71-7AF2-417A-84F0-B7C521D6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0A2-2E9E-4B1A-864D-D8CE8030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E5A-886E-4D80-A9CD-D22F6626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D0C-EC9F-4C2A-B27F-0398FF2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5AC-101E-4975-BB07-D853919F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BAF-C7FC-4F01-8C86-EAF6B7E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A01B-22DA-4A04-BCA7-DDC8B290E00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Green Bel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eenbel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established to prevent the continued growth of many of the largest cities of England and Scot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rings of heavily protected open land circling an urban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im to protect the surrounding countryside from development, and in some cases stop two large cities from merg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ing permission is not usually granted for schemes on green belt land, although there is often great pressure to allow some proposals thr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25 is built through much of London's greenbel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ain problems of the greenbelts is that they have led to people commuting further into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14:34Z</dcterms:created>
  <dc:creator>Dell_02</dc:creator>
  <dc:description/>
  <dc:language>en-US</dc:language>
  <cp:lastModifiedBy>Dell_02</cp:lastModifiedBy>
  <dcterms:modified xsi:type="dcterms:W3CDTF">2011-01-26T03:17:07Z</dcterms:modified>
  <cp:revision>1</cp:revision>
  <dc:subject/>
  <dc:title>Green Belts</dc:title>
</cp:coreProperties>
</file>